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745-BA86-40E4-A48B-48DFA02F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A99-137B-4597-99AB-17809F7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615-CB8C-40FB-9341-7FAAB07A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3A1-8B0B-4185-BB28-8DA714C0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72A-35A0-4D4A-A574-DEBA43A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0F8-724D-4C48-872C-6B4FD30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DF8-E9F8-4503-BEA6-ED19D232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C2D-CD8F-4520-B09C-38E3A81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691-E1EC-491E-9802-88073D62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713-4EA0-4BC6-B278-98036DB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7D6-FF3A-42D5-BC54-8EFB51C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F65-D8C5-40FA-8B07-7978C84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46A-85AE-4303-B1F7-9604E4607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is the _____ weather for a  region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gle of _____ is the angle at which sunlight or radiation strikes the 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angle direct (</a:t>
            </a: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9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 Black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radiation strikes at the equator creating _______climates and low angle indirect radiation is more _____ out near the poles creating ____ cl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rts are located a ____ degrees north and south latitude and Rainforest are located at ____ degrees lat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3124080"/>
            <a:ext cx="19810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swer Ban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emperate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281952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mate at the top of the mountain in Figure 1 is _____and ______ than at the bott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  The climate on the (A) windward side of the mountain in Figure 1 is 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  The climate on the (B) leeward side of the mountain in Figure 1 is 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n) _______ is a land feature often found on the  leeward (B) side of the mountain in Figu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igure 1, the side of the mountain facing the wind, air rises, _______, and drops moi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5410080"/>
            <a:ext cx="29718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nswer Ban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y               Cool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der and w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ert           w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724280"/>
            <a:ext cx="121896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ig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876920"/>
            <a:ext cx="380880" cy="53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4876920"/>
            <a:ext cx="380880" cy="533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 flipV="1">
            <a:off x="7848360" y="0"/>
            <a:ext cx="609480" cy="19051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182880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Fig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95280"/>
            <a:ext cx="6400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eason is occurring in the northern hemi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gure above, what hemisphere is receiving less l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lived near the equator, the sun would shine directly 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seasons are caused by earth’s ____ on it’s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summer in the northern hemisphere then it is _____ in the south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25909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743200"/>
            <a:ext cx="2209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sw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.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447920"/>
            <a:ext cx="7086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f there were no greenhouse effect, Earth's surface woul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rth's atmosphere is warmed by the greenhouse effect because h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ed from Earth'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_____ by gases in the atmo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ich gas would increase average global tempera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ust a 2 degree rise in the average global temperatures can lead to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en gas, oil, and coal are burned, _____ is released into the atmosp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590920"/>
            <a:ext cx="1828800" cy="3200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sea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sever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se twice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d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6 carbon dioxide molecules"/>
          <p:cNvPicPr/>
          <p:nvPr/>
        </p:nvPicPr>
        <p:blipFill>
          <a:blip r:embed="rId1"/>
          <a:stretch/>
        </p:blipFill>
        <p:spPr>
          <a:xfrm>
            <a:off x="7620120" y="3276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86200" y="-914400"/>
            <a:ext cx="350532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-68580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 is the _____weather for a region over a period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mate measure _______ and precipi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factor best influences the clim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San Francis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What factor best influences the clim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Iquitos Peru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  Given rainfall, what type of climate do you think Iquitos peru is???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666880"/>
            <a:ext cx="198108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cated b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s 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1522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qu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02440" y="709560"/>
            <a:ext cx="14320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21:00:07Z</dcterms:created>
  <dc:creator>jfuller</dc:creator>
  <dc:description/>
  <dc:language>en-US</dc:language>
  <cp:lastModifiedBy>jfuller</cp:lastModifiedBy>
  <dcterms:modified xsi:type="dcterms:W3CDTF">2011-12-08T21:02:10Z</dcterms:modified>
  <cp:revision>2</cp:revision>
  <dc:subject/>
  <dc:title>Slide 1</dc:title>
</cp:coreProperties>
</file>